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DE2B-2E9B-426D-9412-8C1F20D63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2383-F6FD-4BC6-8C04-CD642F07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00B1D6-C407-4B72-81FF-E493F13E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F481B3-B4C2-40B1-A1D3-B061896F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5255BB-B4B6-4A82-AEA7-F410A35E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691026-2BA5-4CF4-A112-23DEFD60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EFA24A-99DC-43F0-B4AF-311212EA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1BB8E0-EC95-4E51-B843-5D7A34C7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4D44B9-F610-479F-A2D0-3E0A7669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E7156D-02C4-4437-8B70-8C88F819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23E34E-EC21-477D-BA09-1D6C4044CE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25630-BD6B-4008-A281-31B0B290EE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931E-3AAC-4685-AB16-AFC3AE6B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E1321-05C9-4C39-A8B1-1FDB1607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E9600-BD76-4883-BE08-556A91D8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40A19-68AA-4725-A36A-926FDD16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12B04-9D3B-482D-8C95-01A7C2A3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2A8B5-30A6-47FE-BACD-BDEF5859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B113C-81F3-4834-AE32-85261744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3CD82-000F-488C-BC78-9143D85B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68955-4999-4F5D-9CC7-C9E91367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82D99-034F-4E1D-A074-BADD704C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F15E4-9BF1-4FA4-AD06-2B8D2BD6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0998-ACD0-4947-B5E5-7EF9DDFEB4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727A9-3588-46B4-8172-78E2DF6424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F60A2F-10A8-4766-AAC1-205827410D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10F342-B337-4C13-BA75-C5811C14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15B0B6-E732-4FDC-8F0E-0F0A4DF0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10157B-5580-4BD8-AAD5-6AD36030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C6820D-65A5-449D-A5E4-1519572F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966C47-FBF4-46FA-AB46-52DD47FF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B99368-3E6A-4D09-B721-305E6474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217DD6-EFFF-45F3-B08D-BA7CDB4E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A96085-ED81-4771-B5A6-3F2C74BF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3D9A8-A4EB-4744-8033-6EFC7824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0AEE57-22B3-4BE6-8A0B-9B6F47D9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5BC4F4-EBC8-4720-8085-5414BD67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064E3E-9391-4E94-8458-2C8B55821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91F31-ACE6-4116-9CCA-AAE65DB4D6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6E2CC-0A5D-4210-898E-9891587B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FD62F-6529-4318-896B-4B37A482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FED88-213B-434F-A2E1-8205AC1C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1F98B-F51E-4878-961C-C88AFF6F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69EAE-F448-45C4-8EB4-F3AF3054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A6112-86D4-4723-A983-2121B251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28BA2-2911-4633-B47D-1C1D95B5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FC39E-007B-4E92-AA52-048D33EB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6AD9C-9B7C-4FBC-A1B5-61B3068B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67FDD-52E1-4AB4-B0CC-52FD4BF6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94789-D65B-4E43-A479-25E1B450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37412-7FC5-4A30-BAC8-A38B9C6A94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341A7-39A9-4631-95B1-D51FC1F2A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A13E5-77A2-4F9A-8E10-7847DE3C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3BD3C-C267-4EAD-9AA8-BAA3398D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F1CDA-D1CC-4163-A076-9D8C90B8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4EE1F-E9C4-45B5-868A-FBA0FC98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7A286-9102-4303-8DD7-3A0BC608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39112-F5C5-4DC1-A6AA-92FF0E07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A7DF3-B1CE-427C-AC0F-7FF4EB87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AD362-A429-45C1-A6E1-66962C39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FA0B7-2703-4184-8878-BF4CC87D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0B4B8-E02C-467B-AC0A-392F04A9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02A99-91BA-4F1B-A874-EE5D07CA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E7E1C-D327-4443-B26D-5F48C2725C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2746C-6216-4AE2-B240-31A55EC2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65380-1F48-49AA-8356-4248D6D0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891F2-B678-46D4-9F15-C34C244C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1C707-C695-4D5E-BF10-7E2B066A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3D911-DB20-4776-8065-0EEB3DC4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0449F-43E2-483A-8E86-C5D32206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57647-81B3-4F27-B63A-1F2F1537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960E6-01BF-46CA-8795-9A2A3D22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F4658-EFE2-451F-9BF0-EC2CB20A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6F52A-D7ED-48E9-826E-AFE70FFC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1B4F0-1053-405A-A616-8771C063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03FDF-CE0F-457D-B0F5-F1682AD6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8E63A-1129-48A7-A23C-35A102F7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2E470-1986-4844-9648-8AD5DD01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D901F-B347-4993-83C8-F32E0448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19F65-FDC3-4911-858B-73F7DEFA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9FCC8-741E-4951-9606-0432BDB8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1D1B8-690F-4DF5-88A4-E996A6F5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CA702-013E-4F21-9690-A8F2D9CC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70DA4-316A-40FB-AF8C-658C1180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A5D53-7DAF-424D-901C-97172148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EC505-F604-41E9-89B3-6EBBFEB1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AEBBF-5CB7-4CFE-8194-3997610E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87C09-C739-4443-A879-C11A9547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C01D5-45D6-4B81-AC67-65414C5A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1C6A2-5F73-49DB-B9D7-C52EC11A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8B494-CA35-4729-AB70-DEBA85A3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69613-2321-4951-B059-6127D87E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B1E18-D879-4A0E-9EE7-4F346D0C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568DD-9094-4A8F-AB78-E996A7D4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C97FC-D344-4E6B-A590-0711F116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2A350-A25E-47E8-9938-FF827879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56245-21AA-4FDE-8217-63992344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BF153-6396-4053-A35A-BF2B195B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1DA8A-9EF8-469F-802F-2AE0013A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956A6-B271-40AE-8886-A6BEE52A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03765-9161-495C-B8C6-B0CECB0B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BA3C1-F350-4EFB-82D2-9DFB0100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6CFD0-78BA-447A-A4F6-D2A2B4D6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09242-C79F-420F-8BA2-5B67A982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073BF-8BD0-4559-8DC5-1DC06CC4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7B2F2-7F90-4DC4-AFA4-F9CC60EB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73A14-9C84-44D5-BC84-5DE52F2E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68551-4806-4B03-8968-2B6DD9B2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D6430-0028-4B33-B724-8BDC129A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851E6-20A9-4FC7-AAC9-8FDED755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71E07-6DCA-42B1-B977-C0B43B76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A008-44AA-43D0-8E34-3B80F1AF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492BC-23C7-4444-8923-F91AAD74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C771B-6D19-4D48-A169-4847A3F2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47CA8-1E31-4F46-A86A-75C56631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EFB80-6696-47F7-9175-D82DC12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082C2-17D2-48E8-ABB2-3B88EC35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D14B9-1734-40B0-B069-9E90DD18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D85FE-C618-4A84-A2EF-664B2636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EFA3C-D2C8-47CC-8870-7E365D0B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FF118-3156-4DAA-A803-20F9C781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7771C-A392-472B-A9AE-DAF5A9BC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CF0ED-7079-44D6-8DA6-89199033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4C027-376D-4A18-BD6C-7ABC3F43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E4E7E-87F7-435B-897A-3E734855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CE0ED-E5D9-429C-82F0-44BD0D63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0B2BB-2882-43C2-A8FB-64F9BDBF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A58D7-303E-49CB-88A6-3D62893B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2273B-C176-4143-9E79-7E8DE9B7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1EAFE-30DA-4D78-9DE1-4736247C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EDC2D-0D4C-47AF-BFBD-5CCD066B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DFF8C-7A32-464B-B888-4CFF5099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72AF7-49CF-43D7-BD22-00828C86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8C6CD-7CF5-468C-ADF5-B8B58B12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BAE98-63A4-44BC-AB06-DA33DD62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5CB81-7975-4445-A3E2-AAEAE795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33E5B-B4EE-4DEC-AF17-493F5E7A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5CC56-8689-4C95-BDBB-5AB34D0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6D4725-A04C-46CB-BB0E-4D40AB28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85B56-1B31-4EDC-9068-85D8388F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3B260-BF27-40C9-B921-19AE008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26957-72AF-4900-9FFF-7B168846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CA7AB-9787-4FB5-B044-D26D1DD8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E627A-1A73-4D3F-A291-83A045FE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32534-5645-43D8-BD7D-549DA248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9DEA8-1500-4DE6-8BBC-9A051018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E994DB-63F3-458C-9361-77C7CE28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279E9B-B143-4193-8CFA-1958DCC9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BF91E-C692-4259-AF2D-5382539E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58F8B-913F-4744-ABE2-E839103A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D842A-475D-438D-8DAA-C73D8D6B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C6188-31D4-45A3-8AB6-73431F79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53A11-3455-4E48-9BFE-153A4DCA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955222-D4EF-4DFB-A4BE-632E1AF2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648DC-0C57-4916-9A1B-A9C78873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82E5F-9DFD-48C2-8611-93A5E0A7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703BD-D33C-45DE-9865-71F2E2C7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6B076-91A0-4095-9AD0-D5F4F36C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895BF-8638-484F-B2D6-600C2481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6ABDF-C2A6-49A2-ADFE-DBDD5BAA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FFE1FB-D91F-49B3-9639-89B7ED3E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3221F-D90D-4ECD-A4F1-2CF9EDA4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FD6FC-0FD5-4C51-A325-44F991F2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0B2CE-EA0C-4137-8000-9CD48824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57413-36B2-40BE-AAC4-002B32AB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AD58DB-9DFB-4317-A060-BE00300F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D04B3-F728-4A9D-8DFE-3AB68AC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7B7493-5BCC-4B12-8908-7749B8CC27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807D91-92DE-4A2C-8305-1992B878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154B8-4974-4473-861F-A2B01C1F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BE16C-798A-40BD-B5C7-8D685427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11640-81F2-4005-AE40-9AD3F3A7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D5EB8-9BCE-4DEC-8186-F946610B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725DBD-FAD5-4480-9F7A-6BA73D1B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C0C329-E795-46F3-B624-661EBE25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BB405F-DE49-4AFB-B8F9-FC75835B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5634AE-2F38-426C-BD54-86D2C1F9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6EF0D-364B-4E36-B620-FF25B58F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5EEEB-A925-4439-ACCD-F85547BE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F0993-7AD3-46ED-9611-AD702859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C6C4CB-4166-49FB-81D3-5BB0B90F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4C514-1DD3-4EF7-B9FD-D2108473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69202-6899-40E8-8F6A-CDDA300E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BDA53-3017-4013-940B-D7700BC4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B02148-2CE3-4060-8D1F-A7137CF8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DFB4A-7B75-417E-95C4-E859772F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E359A-5A65-4A2C-874F-13CFC56C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891567-94F5-43CC-8106-1E5238FD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F7EF61-5093-4A39-87C1-75579913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FA2B22-FEF8-4E71-9BA4-54BC649D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ACF09-0C79-4818-A218-8E06F31C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9FD90-F2F8-468C-ACBF-878EFAC9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0AAF79-EE28-4712-8DEE-398ED6FF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9B271-11B4-4674-A6F5-B44E174E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41A92D-AA18-4C57-AF58-DE19AA82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EFD14-D962-436F-807A-4DB450A2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5EE3B3-4047-43C7-86B9-24F81189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0158C-EABC-4105-930F-694A9FE8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074F3D-59A5-4111-A449-DC9557F7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256EFF-7D6B-467C-90BB-250D3446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EBBA1C-2E51-48F4-A13A-3EB76045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280BB-AD19-4DF3-A97F-3B3DF4F9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BD683A-4413-4DA2-8B0A-B9ECCE25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DA4AD4-BD3E-49AA-8CDA-29B868E0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14920C-38F3-4D55-938A-F90051D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AD811-D8F9-45EA-9F06-BE5C0C40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276305-27FB-432E-ADC3-63AE4DC2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2F1C0-87F1-4120-AE2D-BB08F9BC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00039-DEBB-4D2B-9185-C2681970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4C8AB-5C1F-42C6-890A-1C31F4A2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691061-4890-47E2-97FB-91B7ECFB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942B-F286-41FE-97D6-CF90ECE9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3E484-8029-4D9C-A999-3B12B4FD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4A049C-32A1-467A-B90E-8429B307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45213-5EE2-48A3-9FAD-86E41A23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D91561-25F0-4E5C-BC5C-525D58FA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D90CAD-E7E4-4AE1-81CE-D4BDFD92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94A8B-6893-439A-8998-0A60EE64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C97AC7-E7A8-4315-825A-C90E8C0119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18174-820C-4C96-8E9C-B41121C152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6897C-3980-4B0B-B4A3-F0CFD5FD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ECC9-7516-47EB-BADE-F8D58D48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BD12-D0A5-4E54-AB0A-4D86E367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72E0-F362-4375-BF27-D99C9DC3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BA7B-6B16-4EC5-9EFA-D3D54291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0E3E-899B-4458-BC96-387C8F31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D6DD-AEA2-46FF-BF4A-8F2C6C91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7BF6-4BFE-4354-9F25-C83E0C59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EDEBC-A3E1-4EAD-AA99-FB1AB324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C7C9-8FF5-45C1-8EE6-AAE30E28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34017-BECD-41E1-A323-4E41455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7457-3D3B-4461-9E32-05613A536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CC239-464F-4843-A032-4BA8CD3831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61C3-B15F-4352-A717-C958BEA0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0D92F-CE46-4142-9E17-C183D81F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D30A4-0ACF-4ECA-BF79-F0A2F00E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52D81-4371-4930-B57B-A5D43676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037DA-8633-428C-9A1B-A90EAA7F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B0804-7CAA-4D95-8A58-46DDC26F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FC7AA-BE72-4021-8BB1-CEC77056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EB6EB-C258-4AEF-818B-54B42934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73A73-345F-49A5-9C23-E12897A9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22021-12AE-4FEA-8425-A171531A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C0C87-10F9-4396-87EB-3B1F08CF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1EB8-C4B7-44E9-A874-58BC3907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1EA8E-4A16-4C49-B13D-61A6EF2724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47CC6A-412A-49B0-9B22-ED7242F7B0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A5D7A6-657A-4FB9-9618-099BC9C8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09FA32-750A-413B-AB06-DDCED21F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5F86BA-D699-463D-AA51-9C986B66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723EE3-DA81-4072-B47D-66B44FB1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2EECEE-3F36-40CA-867C-65DB606D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F95B08-2D8D-4757-B613-9258922F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48FFC0-7C4A-4DBF-8FB6-9D448340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CC4F6-6084-458B-B996-A7A055A1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08FE-A4EA-49E7-A0C4-E2388159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D4825E-A339-492E-A664-DA4AF441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5C6678-A4E1-4D70-B13E-DB89ECB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A7DBF1-976F-4FCB-A26E-BC2424272B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D8379-262C-41B7-8C75-963299D22D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B242-DF2A-49A0-B929-C7B9518E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D3C6A-674F-43AB-A8BD-661455F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7F436-E7EA-4FE4-880A-F29F7F10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310F-9FC5-4708-B360-8B256422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6F7C-270F-4C29-AA23-F760BFF3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75DE8-7C6E-4959-B13B-8C902539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D7C5-62FF-48D6-AA49-030A0D54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8B555-98AE-4F47-9FB2-B05FBA30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7D9EF-4D3E-4DE1-8AE2-CFEC0AB8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32CA-A8D0-4078-9FA5-3C4385F8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4B5B9-430D-48AE-A381-1EC825B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6B5D3-9622-4E58-95DF-FE9DD80BD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396F0-0BE4-4BAC-8621-1D6979C3EE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DCAFF-6B62-4B22-ACDC-8E6AFA55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EA47B6-DD01-47B9-B087-8EA6952F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1F5DD-663A-4FE8-B630-3D88D5FC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045C1-E17C-437B-9863-D4181117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B4DB-9DBD-47CB-9778-00D16B9F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FB917-9C92-4F48-8995-81CCC67D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6635B-EF9A-433A-94F3-7AA341AF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76E17-D362-4A7A-B973-9446088A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980C2-ACA7-43DF-9D7B-8F3703DC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C04BA-F969-4D8B-A126-2469F008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CA29A-776A-430A-80E3-B2772ED1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C8C9BF-F868-4C0E-A386-8388D12205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4DB8A3-1967-4169-BB5C-36AD606FD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EE02D6-83BC-40EC-B8C4-55383DB6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50867F-2B75-479C-9D0C-7DF7697B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2A9A-F676-4BB8-9EE3-D15DFFDA672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FFF3-6920-4E61-9C7C-F40C97E19B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7D73-5803-434C-873F-F6BBD18ED7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9835-89C2-40F0-AF80-198CCB4345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001E-EC85-431B-B402-9AE46B23E52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DA3D-9802-440D-BA55-86F3D9DABDA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45B6-75B7-4D86-A97F-CBAB8C0D82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AF7F-CAA4-47BE-899F-F2CB82E1415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C071-A572-4B18-98C3-45C42838C5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5373-3347-4B66-9970-5298834372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C6BD-57FD-47A7-B55B-F4CE744299F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2DBD-AE7E-4550-96DB-D49791F12E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93EC-0315-4331-B528-729835C8DC1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AF96-8734-4E2A-B46E-30590D4088D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4742-9B24-4F20-9A00-34FEF23EE1A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60D7-D310-4A7D-A298-99A3072A66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F030-58E0-46F3-9B55-3DBD78D0E91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0857-D6A7-46A6-AC8A-D6806C8918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1515-1C8B-4055-B7CF-0AF23D7E5F1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F98C-9EF3-4C94-AB58-8B353A3E07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E436-3147-4E1C-A685-D26C59056E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AEC8-0543-4C91-82E9-419AF202DA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F0AE-3654-450A-8E2D-35B25BCDDA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C1AA-E1FE-4287-B4DD-A2F9809F05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463840" y="2868480"/>
            <a:ext cx="5572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整 理 和 复 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5527800" cy="527040"/>
            <a:chOff x="-50760" y="87480"/>
            <a:chExt cx="5527800" cy="527040"/>
          </a:xfrm>
        </p:grpSpPr>
        <p:pic>
          <p:nvPicPr>
            <p:cNvPr id="99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226080" y="87480"/>
              <a:ext cx="52509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739800" cy="274320"/>
              <a:chOff x="-50760" y="182520"/>
              <a:chExt cx="739800" cy="274320"/>
            </a:xfrm>
          </p:grpSpPr>
          <p:sp>
            <p:nvSpPr>
              <p:cNvPr id="1001" name="椭圆 35"/>
              <p:cNvSpPr/>
              <p:nvPr/>
            </p:nvSpPr>
            <p:spPr>
              <a:xfrm rot="16200000">
                <a:off x="235080" y="33408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320" y="26352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37"/>
              <p:cNvSpPr/>
              <p:nvPr/>
            </p:nvSpPr>
            <p:spPr>
              <a:xfrm rot="16200000">
                <a:off x="235080" y="19656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445320" y="19152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2739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559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01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2" descr="D:\我的文档-桌面-收藏夹\桌面\6afcd472nb35262a75045&amp;690.jpg.png"/>
          <p:cNvPicPr/>
          <p:nvPr/>
        </p:nvPicPr>
        <p:blipFill>
          <a:blip r:embed="rId8"/>
          <a:stretch/>
        </p:blipFill>
        <p:spPr>
          <a:xfrm>
            <a:off x="71280" y="1214280"/>
            <a:ext cx="9072720" cy="4586400"/>
          </a:xfrm>
          <a:prstGeom prst="rect">
            <a:avLst/>
          </a:prstGeom>
          <a:ln w="0">
            <a:noFill/>
          </a:ln>
        </p:spPr>
      </p:pic>
      <p:grpSp>
        <p:nvGrpSpPr>
          <p:cNvPr id="1010" name="组合 7"/>
          <p:cNvGrpSpPr/>
          <p:nvPr/>
        </p:nvGrpSpPr>
        <p:grpSpPr>
          <a:xfrm>
            <a:off x="95040" y="1251000"/>
            <a:ext cx="1905120" cy="2067840"/>
            <a:chOff x="95040" y="1251000"/>
            <a:chExt cx="1905120" cy="2067840"/>
          </a:xfrm>
        </p:grpSpPr>
        <p:sp>
          <p:nvSpPr>
            <p:cNvPr id="1011" name="弧形 3"/>
            <p:cNvSpPr/>
            <p:nvPr/>
          </p:nvSpPr>
          <p:spPr>
            <a:xfrm rot="18797400">
              <a:off x="402120" y="1702080"/>
              <a:ext cx="1243080" cy="1381320"/>
            </a:xfrm>
            <a:custGeom>
              <a:avLst/>
              <a:gdLst/>
              <a:ahLst/>
              <a:rect l="l" t="t" r="r" b="b"/>
              <a:pathLst>
                <a:path stroke="0" w="1242467" h="1380668">
                  <a:moveTo>
                    <a:pt x="621233" y="0"/>
                  </a:moveTo>
                  <a:cubicBezTo>
                    <a:pt x="964331" y="0"/>
                    <a:pt x="1242466" y="309073"/>
                    <a:pt x="1242466" y="690334"/>
                  </a:cubicBezTo>
                  <a:cubicBezTo>
                    <a:pt x="1242466" y="797344"/>
                    <a:pt x="1220555" y="898668"/>
                    <a:pt x="1181476" y="988999"/>
                  </a:cubicBezTo>
                  <a:lnTo>
                    <a:pt x="621233" y="690334"/>
                  </a:lnTo>
                  <a:close/>
                </a:path>
                <a:path fill="none" w="1242467" h="1380668">
                  <a:moveTo>
                    <a:pt x="621233" y="0"/>
                  </a:moveTo>
                  <a:cubicBezTo>
                    <a:pt x="964331" y="0"/>
                    <a:pt x="1242466" y="309073"/>
                    <a:pt x="1242466" y="690334"/>
                  </a:cubicBezTo>
                  <a:cubicBezTo>
                    <a:pt x="1242466" y="797344"/>
                    <a:pt x="1220555" y="898668"/>
                    <a:pt x="1181476" y="98899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51"/>
            <p:cNvSpPr/>
            <p:nvPr/>
          </p:nvSpPr>
          <p:spPr>
            <a:xfrm>
              <a:off x="500040" y="1251000"/>
              <a:ext cx="150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往后都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10"/>
          <p:cNvGrpSpPr/>
          <p:nvPr/>
        </p:nvGrpSpPr>
        <p:grpSpPr>
          <a:xfrm>
            <a:off x="-234000" y="2870640"/>
            <a:ext cx="1754280" cy="2777400"/>
            <a:chOff x="-234000" y="2870640"/>
            <a:chExt cx="1754280" cy="2777400"/>
          </a:xfrm>
        </p:grpSpPr>
        <p:sp>
          <p:nvSpPr>
            <p:cNvPr id="1014" name="弧形 8"/>
            <p:cNvSpPr/>
            <p:nvPr/>
          </p:nvSpPr>
          <p:spPr>
            <a:xfrm rot="12517800">
              <a:off x="20520" y="3084480"/>
              <a:ext cx="1244880" cy="1380960"/>
            </a:xfrm>
            <a:custGeom>
              <a:avLst/>
              <a:gdLst/>
              <a:ahLst/>
              <a:rect l="l" t="t" r="r" b="b"/>
              <a:pathLst>
                <a:path stroke="0" w="1243975" h="1380737">
                  <a:moveTo>
                    <a:pt x="621987" y="0"/>
                  </a:moveTo>
                  <a:cubicBezTo>
                    <a:pt x="965501" y="0"/>
                    <a:pt x="1243974" y="309088"/>
                    <a:pt x="1243974" y="690368"/>
                  </a:cubicBezTo>
                  <a:cubicBezTo>
                    <a:pt x="1243974" y="797495"/>
                    <a:pt x="1221991" y="898923"/>
                    <a:pt x="1182787" y="989330"/>
                  </a:cubicBezTo>
                  <a:lnTo>
                    <a:pt x="621987" y="690368"/>
                  </a:lnTo>
                  <a:close/>
                </a:path>
                <a:path fill="none" w="1243975" h="1380737">
                  <a:moveTo>
                    <a:pt x="621987" y="0"/>
                  </a:moveTo>
                  <a:cubicBezTo>
                    <a:pt x="965501" y="0"/>
                    <a:pt x="1243974" y="309088"/>
                    <a:pt x="1243974" y="690368"/>
                  </a:cubicBezTo>
                  <a:cubicBezTo>
                    <a:pt x="1243974" y="797495"/>
                    <a:pt x="1221991" y="898923"/>
                    <a:pt x="1182787" y="98933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51"/>
            <p:cNvSpPr/>
            <p:nvPr/>
          </p:nvSpPr>
          <p:spPr>
            <a:xfrm>
              <a:off x="-71280" y="4411440"/>
              <a:ext cx="6271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TextBox 10"/>
          <p:cNvSpPr/>
          <p:nvPr/>
        </p:nvSpPr>
        <p:spPr>
          <a:xfrm>
            <a:off x="611280" y="85680"/>
            <a:ext cx="59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整理、复习乘法口诀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4" descr="D:\我的文档-桌面-收藏夹\桌面\szjiujiu.gif"/>
          <p:cNvPicPr/>
          <p:nvPr/>
        </p:nvPicPr>
        <p:blipFill>
          <a:blip r:embed="rId1"/>
          <a:stretch/>
        </p:blipFill>
        <p:spPr>
          <a:xfrm>
            <a:off x="1071720" y="785880"/>
            <a:ext cx="6929280" cy="508932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19" name="圆角矩形 47" descr=""/>
            <p:cNvPicPr/>
            <p:nvPr/>
          </p:nvPicPr>
          <p:blipFill>
            <a:blip r:embed="rId2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21" name="椭圆 52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2" name="椭圆 5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椭圆 5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4" name="椭圆 61" descr=""/>
              <p:cNvPicPr/>
              <p:nvPr/>
            </p:nvPicPr>
            <p:blipFill>
              <a:blip r:embed="rId4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6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70" descr=""/>
              <p:cNvPicPr/>
              <p:nvPr/>
            </p:nvPicPr>
            <p:blipFill>
              <a:blip r:embed="rId8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组合 2"/>
          <p:cNvGrpSpPr/>
          <p:nvPr/>
        </p:nvGrpSpPr>
        <p:grpSpPr>
          <a:xfrm>
            <a:off x="-68400" y="87480"/>
            <a:ext cx="3926160" cy="527040"/>
            <a:chOff x="-68400" y="87480"/>
            <a:chExt cx="3926160" cy="527040"/>
          </a:xfrm>
        </p:grpSpPr>
        <p:pic>
          <p:nvPicPr>
            <p:cNvPr id="1030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19880" y="87480"/>
              <a:ext cx="37378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组合 4"/>
            <p:cNvGrpSpPr/>
            <p:nvPr/>
          </p:nvGrpSpPr>
          <p:grpSpPr>
            <a:xfrm>
              <a:off x="-68400" y="182520"/>
              <a:ext cx="522360" cy="274320"/>
              <a:chOff x="-68400" y="182520"/>
              <a:chExt cx="522360" cy="274320"/>
            </a:xfrm>
          </p:grpSpPr>
          <p:sp>
            <p:nvSpPr>
              <p:cNvPr id="1032" name="椭圆 52"/>
              <p:cNvSpPr/>
              <p:nvPr/>
            </p:nvSpPr>
            <p:spPr>
              <a:xfrm rot="16200000">
                <a:off x="191160" y="341640"/>
                <a:ext cx="10260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680" y="291600"/>
                <a:ext cx="224280" cy="9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4" name="椭圆 58"/>
              <p:cNvSpPr/>
              <p:nvPr/>
            </p:nvSpPr>
            <p:spPr>
              <a:xfrm rot="16200000">
                <a:off x="191160" y="210600"/>
                <a:ext cx="10260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9680" y="194760"/>
                <a:ext cx="224280" cy="9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68400" y="305640"/>
                <a:ext cx="446400" cy="8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68400" y="281160"/>
                <a:ext cx="446400" cy="8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68400" y="206640"/>
                <a:ext cx="446400" cy="8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68400" y="182520"/>
                <a:ext cx="446400" cy="85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0" name="矩形 1"/>
          <p:cNvSpPr/>
          <p:nvPr/>
        </p:nvSpPr>
        <p:spPr>
          <a:xfrm>
            <a:off x="285840" y="642960"/>
            <a:ext cx="84294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学习乘法口诀有什么用呢？（算算式、生活中买东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算一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×7              9×4               9×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7              4×8               5×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×9              8×3               7×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1"/>
          <p:cNvSpPr/>
          <p:nvPr/>
        </p:nvSpPr>
        <p:spPr>
          <a:xfrm>
            <a:off x="1316160" y="1951200"/>
            <a:ext cx="78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4178160" y="195120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1"/>
          <p:cNvSpPr/>
          <p:nvPr/>
        </p:nvSpPr>
        <p:spPr>
          <a:xfrm>
            <a:off x="7183440" y="195120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8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1"/>
          <p:cNvSpPr/>
          <p:nvPr/>
        </p:nvSpPr>
        <p:spPr>
          <a:xfrm>
            <a:off x="1316160" y="2522520"/>
            <a:ext cx="78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1"/>
          <p:cNvSpPr/>
          <p:nvPr/>
        </p:nvSpPr>
        <p:spPr>
          <a:xfrm>
            <a:off x="4178160" y="252252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1"/>
          <p:cNvSpPr/>
          <p:nvPr/>
        </p:nvSpPr>
        <p:spPr>
          <a:xfrm>
            <a:off x="7183440" y="252252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51"/>
          <p:cNvSpPr/>
          <p:nvPr/>
        </p:nvSpPr>
        <p:spPr>
          <a:xfrm>
            <a:off x="1357200" y="30718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51"/>
          <p:cNvSpPr/>
          <p:nvPr/>
        </p:nvSpPr>
        <p:spPr>
          <a:xfrm>
            <a:off x="4219560" y="30718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51"/>
          <p:cNvSpPr/>
          <p:nvPr/>
        </p:nvSpPr>
        <p:spPr>
          <a:xfrm>
            <a:off x="7183440" y="30718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1"/>
          <p:cNvSpPr/>
          <p:nvPr/>
        </p:nvSpPr>
        <p:spPr>
          <a:xfrm>
            <a:off x="285840" y="3968640"/>
            <a:ext cx="8429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(     )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里最大能填几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     )×4&lt;29       (     )×8&lt;55             34&gt;5×(     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51"/>
          <p:cNvSpPr/>
          <p:nvPr/>
        </p:nvSpPr>
        <p:spPr>
          <a:xfrm>
            <a:off x="1143000" y="471492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51"/>
          <p:cNvSpPr/>
          <p:nvPr/>
        </p:nvSpPr>
        <p:spPr>
          <a:xfrm>
            <a:off x="4286160" y="471492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1673280" y="531036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15"/>
          <p:cNvSpPr/>
          <p:nvPr/>
        </p:nvSpPr>
        <p:spPr>
          <a:xfrm>
            <a:off x="466560" y="117360"/>
            <a:ext cx="61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应用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39:43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